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B03-E1F2-4747-96CF-07153B62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B43-A7D1-426C-ADF2-C09917CE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3AD-3FAA-4A98-A352-7A58CA84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3CB-330B-4BE9-8882-5F49E532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C17F-7E00-4FDD-A910-49EABBAB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4C7E-E06F-4CB0-A593-61F0206E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728D-C6E7-4C12-8E77-3A515D7E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1D59-2F76-4861-96BA-FFF6068B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5AB3-287F-4262-AEAB-42254865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B892-6B76-4DDE-ABC9-2C1BBC42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97EB-D49C-4486-9766-8225A095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B19-6C6A-4E02-B12A-EA088F2C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427A-1DE8-4D1B-A176-232137F0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1C61-C30F-4893-83A1-5E973E3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540A-628A-4445-8488-B93E8083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943D-D77B-4E6F-BF80-B44159E6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B8F9-B2C9-4B23-BC21-20BE2CAF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D54-22DA-4B94-807C-EDF658A1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3E6-EEA4-45E2-86F0-CA74FC1E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388-4377-4EC6-A41B-FF577631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9BA-1D26-4219-985F-F44675EE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E6F-1D72-40B2-A328-9FBD7521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974-BDFC-4577-95C5-4533B3F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A79-06BC-49BC-AC65-A97A8881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92A6-518E-4FA8-898B-4FA8CCD65F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2374-3155-4113-B9A4-047BECE989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2240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2708280"/>
            <a:ext cx="29368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ontpellier se trouve en France, dans l’Héraul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80360" y="3357720"/>
            <a:ext cx="1224000" cy="81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2448000" cy="238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924360" y="4149720"/>
            <a:ext cx="302400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20% de la population sont des étudiant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6000" y="2997360"/>
            <a:ext cx="1382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2781360"/>
            <a:ext cx="1000080" cy="1279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24000" y="4365720"/>
            <a:ext cx="1285920" cy="1920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427640" y="4508640"/>
            <a:ext cx="22366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a ville a des événements sportifs important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3600360" cy="2022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0672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s paysages de la région sont très beaux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2160720" cy="152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95640" y="4653000"/>
            <a:ext cx="3816360" cy="1557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72360" y="3213000"/>
            <a:ext cx="22302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8920" y="1827360"/>
            <a:ext cx="712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ontpellier a de très bons transports public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2376720" cy="173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780000" y="314172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300720" y="4656240"/>
            <a:ext cx="2303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ontpellier a de belles plac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2881080" cy="1952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2565360"/>
            <a:ext cx="2592360" cy="1930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212724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 Montpellier, il y a beaucoup d’artistes et de festival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80000" y="4221000"/>
            <a:ext cx="1527120" cy="219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443640" y="260280"/>
            <a:ext cx="2160720" cy="106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867280" y="3357720"/>
            <a:ext cx="24386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0:12:09Z</dcterms:created>
  <dc:creator>CEC</dc:creator>
  <dc:description/>
  <dc:language>en-US</dc:language>
  <cp:lastModifiedBy>CEC</cp:lastModifiedBy>
  <dcterms:modified xsi:type="dcterms:W3CDTF">2013-03-08T09:23:10Z</dcterms:modified>
  <cp:revision>28</cp:revision>
  <dc:subject/>
  <dc:title>Genève</dc:title>
</cp:coreProperties>
</file>